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EBB0-65EA-4040-90D1-107C252ABD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9B357-3786-4A05-83CC-EA1AF59358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088F-DA26-4241-9204-9F3F8DC4FD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87761-261D-4F6C-A088-924CF94861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6CBB9-70CC-46AF-8BD3-F732136B11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1FDD3-F301-435E-9C96-5B398FFA02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B95C6-00BF-45A8-87F7-36E08DA110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A358-9445-4554-ADC3-8ADE7D1C9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17AD-CA2F-4AFB-A32F-234B853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34D0-EBE6-4F30-9246-34CEC53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B1AA-D315-48F5-9B00-BE7C88DE4D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CF81-B436-4A82-AF3A-2791EDF8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4B9E-B87C-4EDD-82B3-19480E0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82F2-5A2F-423A-A875-44757458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23F5-FB91-414E-A3FD-ACB58060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25EF-383E-430A-BABC-72BFB4C6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1A81-5099-48E2-B048-3B0B3CE2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7F48-15DD-4C18-B9AE-1C57712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5860-B86C-4C23-B127-5034F49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8F68CB-0A34-4351-B3DC-EFD521EF37C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260360" y="3240000"/>
            <a:ext cx="676620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formación de cordill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39640" y="1413000"/>
            <a:ext cx="3060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cordilleras se forman en placas convergentes en las que hay litosfera continental en una placa (o en ambas)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empujarse, la litosfera continental se pliega y se eleva formando cordilleras paralelas al bor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1979640" y="3573360"/>
            <a:ext cx="112860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932360" y="1557360"/>
            <a:ext cx="3382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gentes modeladores del relieve, como el agua y el viento, tenderán a suavizar el terreno, llevando materiales de las zonas más elevadas a las más baj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4047840" y="2924280"/>
            <a:ext cx="1028520" cy="10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87280" y="3240000"/>
            <a:ext cx="6732720" cy="2791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evolución de un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9856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apertura y cierre de los océ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9640" y="1628640"/>
            <a:ext cx="306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bordes convergentes,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laca oceánica se va hundiendo en el manto, por lo que el océano se va cerrando hasta desaparec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556000" y="2852640"/>
            <a:ext cx="799920" cy="13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356000" y="2060640"/>
            <a:ext cx="3168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bordes divergentes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cas crecen, y con ello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océano, que se ensanch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6012000" y="2924280"/>
            <a:ext cx="28872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7T09:28:16Z</dcterms:modified>
  <cp:revision>44</cp:revision>
  <dc:subject/>
  <dc:title>Diapositiva 1</dc:title>
</cp:coreProperties>
</file>